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B73-EEC7-4E13-BA97-D2A0E911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EC8-A07C-4F70-BE8C-B1EC8E55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DEF-2140-4769-B5AA-D2645947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A3A-2054-4B7A-A557-B35FCC09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39-576F-4A9B-A944-DF91F73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780-061B-458B-959D-89263E75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F2B-D878-4C2C-BAAF-FD070213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BD6-4738-4715-9F56-1F336F4A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22E-40C0-4675-84EF-3FAEAB53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550-6022-49D8-8B05-4937D9B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5F3-66AB-4474-97FC-0B36B6E0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E5B-9138-403B-AC8A-10295FBB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1605-1B02-4CD3-87BB-957CF3E3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21924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Learner Profile in Ac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does it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3120" y="2592360"/>
            <a:ext cx="109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9800" y="3441600"/>
            <a:ext cx="15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ef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4290840"/>
            <a:ext cx="17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Princip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00080" y="5329080"/>
            <a:ext cx="219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6640" y="5931000"/>
            <a:ext cx="219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Open-mi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4880" y="5264280"/>
            <a:ext cx="12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Inqui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08800" y="4351320"/>
            <a:ext cx="12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Thi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58040" y="33433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ommun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87880" y="2492280"/>
            <a:ext cx="15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isk-t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4800" y="1773360"/>
            <a:ext cx="22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Knowled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5364000"/>
            <a:ext cx="0" cy="614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86160" y="2430000"/>
            <a:ext cx="0" cy="58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81560" y="2784240"/>
            <a:ext cx="723960" cy="23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81560" y="3576240"/>
            <a:ext cx="1160640" cy="2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5960" y="4435560"/>
            <a:ext cx="1214280" cy="12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81560" y="5349960"/>
            <a:ext cx="70956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48040" y="5349960"/>
            <a:ext cx="45072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01680" y="4491000"/>
            <a:ext cx="1270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142720" y="3712680"/>
            <a:ext cx="124164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496960" y="2838600"/>
            <a:ext cx="874800" cy="20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eachers Talking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want your students to ‘be’ at the end of their......edu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er Profile from staff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the LP in Essential Agreements for learning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in reflections/self-assessments-portfo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ing LP in Pastoral Care Program/Behaviour Guidanc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LP attributes i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/highlight LP in curriculum documentation – planners, scope an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brating evidence of the LP in whole school community – assemblies, newsletters, school website, boards arou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9200" y="21924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Learner Profile in Ac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does it mean to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3120" y="2592360"/>
            <a:ext cx="109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800" y="3441600"/>
            <a:ext cx="15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efl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290840"/>
            <a:ext cx="173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Princip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00080" y="5329080"/>
            <a:ext cx="219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5931000"/>
            <a:ext cx="219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Open-mi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4880" y="5264280"/>
            <a:ext cx="12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Inquir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08800" y="4351320"/>
            <a:ext cx="12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Thi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58040" y="33433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Commun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87880" y="2492280"/>
            <a:ext cx="15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Risk-t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14800" y="1773360"/>
            <a:ext cx="22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vantGarde Md BT"/>
              </a:rPr>
              <a:t>Knowled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25760" y="5364000"/>
            <a:ext cx="0" cy="614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86160" y="2430000"/>
            <a:ext cx="0" cy="58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81560" y="2784240"/>
            <a:ext cx="723960" cy="231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81560" y="3576240"/>
            <a:ext cx="1160640" cy="2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95960" y="4435560"/>
            <a:ext cx="1214280" cy="12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81560" y="5349960"/>
            <a:ext cx="709560" cy="13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48040" y="5349960"/>
            <a:ext cx="450720" cy="1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101680" y="4491000"/>
            <a:ext cx="1270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142720" y="3712680"/>
            <a:ext cx="1241640" cy="16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496960" y="2838600"/>
            <a:ext cx="874800" cy="20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32000" y="2708280"/>
            <a:ext cx="2440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9:58:45Z</dcterms:created>
  <dc:creator>janssensj</dc:creator>
  <dc:description/>
  <dc:language>en-US</dc:language>
  <cp:lastModifiedBy>JanssensJ</cp:lastModifiedBy>
  <dcterms:modified xsi:type="dcterms:W3CDTF">2012-03-12T08:12:46Z</dcterms:modified>
  <cp:revision>3</cp:revision>
  <dc:subject/>
  <dc:title>International-mindedness What does it mean to you?</dc:title>
</cp:coreProperties>
</file>